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21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EDEA5-E38D-4938-9651-2FF9CB5CA8B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64C2B-82DD-46AA-AA60-4F11809596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46CBF-38B9-4A55-A6BC-0832E49BB4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395D0-B294-4EBD-98A5-FDD2DB3345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5AA6E-75E1-42E9-ADC2-1643CCDF6F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0F689-2764-4D8D-A540-B3ECEE7E7F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E1688-ADDE-46B6-B3FD-5D47714E24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1EACF-3A33-47D4-ACD3-CEA061E570C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B93AB2-544C-43C5-8882-0B17BD35AA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193CC-36D3-4920-B885-51C6C7BF91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F3F9-A546-4412-B05A-8CC31700C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86AD-CB25-414D-B5CE-988BEA9EC3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A395-AD1E-4998-B1CF-2D06A9FC81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313F-A8B8-4CB1-9531-0E3B5FE5DC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6B9D-2B4D-4974-B2CF-3FCE8992F1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437F-A6AF-4B2E-AB83-B66F3CB4AC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5FC4-A553-4C35-877E-ECBFDD9D92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D4DE-D270-4161-850B-889BFF1E2C6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469D-FF7E-4F54-BBF6-C2BE16B0B7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3DD3-1C3E-4D6C-9861-0DAB8E578D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01B9-41EF-488E-A37E-390EBDCA7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EE30-DB1B-4079-9499-DB122F06D03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C78D8-2E0E-4FAF-859B-D618527B4B2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44F41-29C3-46F6-A4F7-00200863E42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31C0F-BF3E-4190-B9BE-1F9C14B81C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C05A6-D212-4AA7-A879-F5019763B3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73289-4DAE-4269-B85B-E2B81F383D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36F84-A92C-47CF-8FBA-05629DF650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DA17E-BC7B-463D-9798-45B7FB50C4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2C6C6-2ECE-4CA3-BFAF-75D29AA996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7DA9A-A4D5-4B76-A733-6995F6A99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5B48-7EB5-4780-B890-B684E845F7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65490-3249-4312-9CE1-94F5A99618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12EF2-5D17-4F7F-BACF-5E71BAF7AF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36762-84F5-42C0-B89F-033229353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1E75-D36A-4833-B691-2395F5040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6428-7094-4429-BB7D-253220E5E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AD55-7DA6-48A3-81F6-6961E36A6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7EA2-233E-48B7-B6BD-E6D7A8A507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E7CD-347C-40D6-8164-5271D4CE3B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361F-6529-4DBE-B6CE-71375B12E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7AD9-BAED-41E0-84DB-48EA59EF3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8F05-1B5E-4984-AC50-7ABCFC754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9F15-F8D8-4F06-8B0B-BAD922293A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4C6A-517F-496E-BECC-ADA700B711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08B0-311B-421D-8E7A-8BB2B290D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5FEAF-A4DC-46D9-AEA0-FC4EA7BEFE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49020-81BE-4969-8B9C-81636313D9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C307-8EBC-4BC0-8182-6530E63CBA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7339F-011A-4BF6-BCB4-D6726ABA22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2C8D5-03C4-4439-8191-3D7DAFDBF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5CDE-B8D3-466C-A075-13B18685A2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1CFE9-802B-4F4F-8E27-799E91D7C3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5F265-DAF1-4DE7-83E9-C329F876B8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474F2-489E-4A48-9F70-EBEBB6BFA1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987D8-4A2C-4285-949D-B00477342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F640F-83EF-4432-94DA-80AB68A3E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947C9-6712-4254-8C16-C0DF24AD8C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72E6-F939-4E97-96F5-02F33775B5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03D-E257-41BF-8EDF-C87D85D643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A367-ED78-4F2F-A62B-F3AAADBB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3772-DE8C-4CA8-83B4-60FE520021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AB6-5D96-4E2C-9EAA-F2050F4B01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BEA0-F119-4D66-B365-FA49AC1637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DF18-DEF6-4284-B464-88890FF97C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E427-1240-4C90-A725-05AD89DDE0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6A0-C02D-4317-9839-54AE4E2D02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CD49-F852-439E-A27B-530D1DB6CA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273-647E-4F5F-A6E2-699CAD0E56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259A-BB5A-487B-B058-17EC4E7D8E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EC863-85D9-48EB-A2D4-CE26EC585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B740F-423F-4CF9-811A-73865480E3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742BF-E770-450A-8300-10844D44DB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A841B-D32D-4601-895B-2D9CB086B3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43F97-6DDE-46B1-9D1A-D96DAF6CE5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6F013-7FB6-4A76-8D1F-B63C65DCDB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E586F-93D8-4599-A3C7-D915785286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F17A1-D98D-44F0-9157-04E9C1963E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9900C-B23F-4794-B461-B3FC23A543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8347-8C31-4413-833A-81953C2D97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F3FA0-C369-4D9F-BE59-5D2DE2417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740D1-8EF6-4BD9-BD3A-D76DF3899A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4E656-A8AD-4DD4-915D-604F6C1125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BEFE3-5759-43FA-9334-B7B5A3AEFA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92DF7-3917-42AF-AE15-E6020EB9E1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4BD6D-3974-4960-91C7-1D2ECED45A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91FB4-AF76-45B4-9150-9AB4F80BD6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C11D9-4A36-4F74-90B3-A10B33F2DD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5E3AF-B965-435B-BEC4-7D7EF274D7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BA85C-A980-4E91-B428-9777A33512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42676-6A30-4366-8FE5-8CD479086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2FEF9-D29C-4DC9-B40A-8FD557FCDC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FBD01-A647-459D-B044-3D96B441A6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6F1AD-9190-404C-8F81-8D9B3A5207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E721-47CB-44C9-84DD-5BD376DA2F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5496-CC5B-4B5C-B631-656BF367AC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2E50-CB20-4880-AFDD-406268F1A4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706B-7E2F-4D4F-8643-6DFA105163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E3C1-492C-4207-BE37-1A60288670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DC4A-DE07-4EE1-B2AC-73459D291A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195A-87F3-4602-BF90-C57FA5925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D677E-7A92-4F85-85F1-46CCB5F90D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F563-B10A-437B-BE67-04D6355906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96FF-CD8E-4A3A-8362-73937104E0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1ACF-A73E-4460-A417-4789CEB2E1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7575-5283-4F10-9479-DA0374918C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84E54-C8BB-407D-B657-8B31C72C36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4D758-7657-410D-BA2D-7534088435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D7216-22EE-499A-A722-3C66345005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C98E3-E263-4C83-B152-85B6C94368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87A7B-6E9E-482E-9EE8-E4B60E2CF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542E9-0C77-4C8C-AB50-8DBD0FD4BA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A072D-00EA-4267-A300-E1D3058B88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81174-FDD0-45DC-B33F-57B6927790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31722-4A2B-4970-B24B-7820D835B0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172C9-5BD6-45AE-9F53-8DD904E0F6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CDE7A-2275-439D-89D1-743E355965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1C1A2-5228-4A01-84BD-56FF431EA1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AEF46-A6D6-461B-9F44-4D3BA189C4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034E0-991F-4B42-883F-8EDD46A86E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3E3A4-A19C-41C0-B17A-5FCBE58C0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5D92-0BF8-418E-ACBE-86A25B122E4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A32AB-1D4C-435A-AD86-2927C53F282E}" type="slidenum"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379E-24CA-4836-8881-462C8AEA54B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97219-C424-41C1-8DB6-061CA6CE803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571F3-4FA6-4087-8236-040FDAD3C02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0F556-8B37-4B84-B75E-6D9960CEED5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3F62C-4FC0-451A-9F61-7CBDDD4ECA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A3179-27D0-4C3C-A923-4643BA3CE44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CBDDC-7213-471C-AFA0-885A8B3BBFD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240" y="6591240"/>
            <a:ext cx="55594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480" y="6400800"/>
            <a:ext cx="190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6AE4A-9EB7-4CEC-AB74-D6E9DAEE66B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mputer Anima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Edie Migli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 Polimi + 7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97452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539640" y="3382920"/>
            <a:ext cx="82803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orso intende fornire i principi matematici di base atti a comprendere ed eventualmente rielaborare le metodologie su cui sono basati i software di computer animation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utilizzato: blend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valutazione del corso sarà basata  sulla discussione di un elaborato/progetto svolto dallo student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340640" y="158760"/>
            <a:ext cx="57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Corsi a scelta di Area Tematico-Strumenta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‘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1268280"/>
            <a:ext cx="835164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Introduzione alla Computer Animation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Trasformazioni geometriche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enni ai metodi di soluzione delle equazioni che descrivono il movimento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Deformazione degli oggetti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Morphing (2D)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Interpolazione 3D di forme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Elementi di cinematica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Simulazione di corpi rigidi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Deformazione di tessuti e vestiti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Simulazione di capelli e di oggetti deformabili;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Simulazione di fluidi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Francesca Onofri</cp:lastModifiedBy>
  <cp:lastPrinted>2003-05-08T11:08:41Z</cp:lastPrinted>
  <dcterms:modified xsi:type="dcterms:W3CDTF">2013-07-17T09:14:20Z</dcterms:modified>
  <cp:revision>194</cp:revision>
  <dc:subject/>
  <dc:title>Inserire immagine della locandina, possibilmente in trasparenza e aggiungere Facoltà di Architettura Illustrazione prova di ammissione prof. Silvia Piardi (idem Cedolin)</dc:title>
</cp:coreProperties>
</file>